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694-8990-42A1-943E-4E60681B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AD9-E263-4BA2-B2AF-08DCBA92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77D-12E6-477C-BFDB-C0BBD4F7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15E-0138-4A5F-A6AA-A956DCF1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791-6DCA-4E75-B432-00706B99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103-9DE8-435A-996E-9579E47D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40A-D076-47F9-A22C-E174C96C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128-A657-4710-9944-9BAD5BF0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1D2-23A0-4FC3-8248-AB41BDA9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A81-1640-4ED6-852F-203F687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F2A-DF82-4DB0-9911-F9A90CA4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D35-4CB3-4599-AA7A-4DA31CD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5F4D-705E-43B3-8819-7ECF0FC8F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k.com/bar?q=general+Robert+E+Lee&amp;page=1&amp;qsrc=0&amp;ab=1u" TargetMode="External"/><Relationship Id="rId2" Type="http://schemas.openxmlformats.org/officeDocument/2006/relationships/hyperlink" Target="http://www.ask.com/bar?q=general+Robert+E+Lee&amp;page=1&amp;qsrc=0&amp;ab=1u" TargetMode="External"/><Relationship Id="rId3" Type="http://schemas.openxmlformats.org/officeDocument/2006/relationships/hyperlink" Target="http://www.ask.com/bar?q=general+Robert+E+Lee&amp;page=1&amp;qsrc=0&amp;ab=1u" TargetMode="External"/><Relationship Id="rId4" Type="http://schemas.openxmlformats.org/officeDocument/2006/relationships/hyperlink" Target="http://www.ask.com/bar?q=general+Robert+E+Lee&amp;page=1&amp;qsrc=0&amp;ab=1u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lbroad.com/wp-content/uploads/2009/01/robert-e-lee-hosrseback.jpg&amp;imgrefurl=http://olbroad.com/category/history/&amp;usg=__vvx0M28zyA6V6XPAA_pfy7RgDMQ=&amp;h=349&amp;w=396&amp;sz=46&amp;hl=en&amp;start=7&amp;tbnid=h4OCT8hbHqDSNM:&amp;tbnh=109&amp;tbnw=124&amp;prev=/images%3Fq%3Drobert%2Be%2Blee%26gbv%3D2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971800" y="1752480"/>
            <a:ext cx="310824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mber &amp; Cia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ert E. L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Opinion on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ought that blacks were better off here than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inful discipline is necessary for their further instruction as a race and will hopefully prepare them for better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war he was employed as an engineer worker in Washington and Balti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came a president at a Washington College in Lexington,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33920" y="4600440"/>
            <a:ext cx="2047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Robert E. Lee was an important general that led the south thru good and bad times. Robert was a great leader and without him the south would  have surely lost the war (anyway). With his help, the south had a ch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sk.com/bar?q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eneral+Robert+E+Lee&amp;page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1&amp;qsrc=0&amp;ab=1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onofthesouth.net/leefoundation/About%20the%Genera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brary.thinkquest.org/3055/netscape/people/le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sk.com/bar?q=what+did+robert+e+lee+do+after+the+civil+war%3F&amp;page=1&amp;qsrc=0&amp;ab=3&amp;u=http%3A%2F%2Fwww.civilwarhome.com%Fleebi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at you will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learn about the southern general, Robert E. Lee and all his accomplishments, as well as his family and other important things in and about hi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4038480"/>
            <a:ext cx="1751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January 19, 1807 at “Stratford” in Westmoreland County,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up where Washington was still a living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many ties to Revolutionary War he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75400" y="4419720"/>
            <a:ext cx="1668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nfo.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9- Robert graduate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is class w/o single demerit against hi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30, 1831 he married Mary Ann Randolph Cus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children, all 3 sons served in Confederat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343400"/>
            <a:ext cx="266688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uffered from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y have had something to do with the massive stroke he had on September 28, 1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eader in Progre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6- Becam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eu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8- Became captain; took part in the Mexican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distinction for bravery and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d the brevets of major for Cerro Gordo, lieut.-colonel for Contreras-Churubusco and colonel for Chapulte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2- Appointed superintendent of West Point; during his 3 years there he carried out many important changes in the acade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5- appointed as lieut.-colonel to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va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Line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9- suppressed the raid by John Brown on Harpers F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1- Sent to set up Atlantic Def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62- Appointed advisor to Jeff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862- Commander of the army of North 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. 1862- Defeated the Union at 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341a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Line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. 1862- Defeated the Union at Frederick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863- Won at Chancellors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863- Defeated at 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65- Surrendered at Appomattox Court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. 12, 1870- D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died of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10080" y="4495680"/>
            <a:ext cx="3429000" cy="2089440"/>
          </a:xfrm>
          <a:prstGeom prst="rect">
            <a:avLst/>
          </a:prstGeom>
          <a:ln w="38160">
            <a:solidFill>
              <a:srgbClr val="0000ff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5:03Z</dcterms:created>
  <dc:creator>amberlgrumbine</dc:creator>
  <dc:description/>
  <dc:language>en-US</dc:language>
  <cp:lastModifiedBy>amberlgrumbine</cp:lastModifiedBy>
  <dcterms:modified xsi:type="dcterms:W3CDTF">2009-03-20T12:22:07Z</dcterms:modified>
  <cp:revision>20</cp:revision>
  <dc:subject/>
  <dc:title>Robert E. Lee</dc:title>
</cp:coreProperties>
</file>